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Book Antiqua"/>
              </a:rPr>
              <a:t>Click to move the slide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E6167-E337-4F48-AD25-C9B5FFBC8F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ers like what happened in last week’s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CCC98-327C-43AB-B4F8-C7D3E84A62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FA532-FC1F-4626-A537-C78690B5EE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580C6-4A73-43C6-8225-0C364F4DC6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1DB93-18B8-41AE-8888-DEA5552AA6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621E5-2BF4-4919-9FBA-F05AE99678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A45E9-2676-4340-8851-F3537652B6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EAA9A-B39E-474B-8D29-833D0F4057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F0A24-20D8-4844-898C-6F950054C0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835280" y="260280"/>
            <a:ext cx="5472000" cy="56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359AC-AB31-4868-8B7F-FB67BF8DC9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E60EB-6EAB-40B8-B4AB-7C29A30020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41442-4B18-4922-9259-E82E848EB5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50230-BBEA-4973-BB78-101DDCE82B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f5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Book Antiqua"/>
              </a:rPr>
              <a:t>Click to edit the title text format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627280" y="6381360"/>
            <a:ext cx="4608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&lt;footer&gt;</a:t>
            </a: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Survey Data Analysis Module – </a:t>
            </a:r>
            <a:r>
              <a:rPr b="1" lang="en-GB" sz="1400" spc="-1" strike="noStrike">
                <a:solidFill>
                  <a:srgbClr val="006666"/>
                </a:solidFill>
                <a:latin typeface="Arial"/>
              </a:rPr>
              <a:t>http://vle.salford.ac.u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09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2FC37-A09A-4C71-9E42-7E57570A60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11280" y="620640"/>
            <a:ext cx="777708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39640" y="260280"/>
            <a:ext cx="813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Book Antiqua"/>
              </a:rPr>
              <a:t>Univariate analysis: Confidence Interv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8244000" y="6219720"/>
            <a:ext cx="593640" cy="59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urveysystem.com/sscalc.htm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f5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Univariate Data analysis: Confidence intervals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-468720" y="1196640"/>
            <a:ext cx="9612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fidence inter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scribes how accurate we think that our frequency percentage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nfidence interval states a range either side of the sample’s frequency figure, in which we are confident the “real” figure would lie if tested out on the whole popu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used a lot in political opinion polls during elec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Labour’s polling is 44%, plus or minus 3%.  The 3% is the confidence interval.  We can be “sure” that the real answer is somewhere between 41% and 47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are never 100% “sure” that the figure will lie inside this range, so statistically we usually test to ensure 95% confid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.e. we calculate that 19/20 times we will be corr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f5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Univariate Data analysis: Confidence intervals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-468720" y="1196640"/>
            <a:ext cx="9612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ion for the confidence interval depends upon the size of the sample, size of the population, and where on the 1-100% your frequency percentage 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large populations, the population size isn’t impor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cise formula for calculating the confidence interval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x the square root of:     (frequency x (100-frequency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by the sample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ckily, there are websites that can calculate confidence intervals for us: e.g.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surveysystem.com/sscalc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67280" y="4941720"/>
            <a:ext cx="39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f5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Univariate Data analysis: Confidence intervals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484280"/>
            <a:ext cx="8137440" cy="49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RCISE:  Work out the confidence intervals for the following statistics.  What range of values can we be “sure” they will be within for the general popul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 recent survey of 1249 parents in a nationally representative sample, it was found that 60% of respondents considered it acceptable to smack a child on their bottom with an open hand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% of parents in the same study reported having used severe physical punishment (hitting with object, shaking, bit or pinched) on their child in the past ye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econd representative study of 1034 adults found that 79% considered smacking with the open hand as “justified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1T15:26:14Z</dcterms:created>
  <dc:creator>Dr Neal Hazel</dc:creator>
  <dc:description/>
  <dc:language>en-US</dc:language>
  <cp:lastModifiedBy>Neal Hazel</cp:lastModifiedBy>
  <dcterms:modified xsi:type="dcterms:W3CDTF">2006-11-13T08:51:37Z</dcterms:modified>
  <cp:revision>86</cp:revision>
  <dc:subject/>
  <dc:title>Slide 1</dc:title>
</cp:coreProperties>
</file>